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904E1F-4F73-404A-B025-3EC648836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A8E6F-7E70-4649-980F-1BB4EC7E6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DD95A-01FA-4B9D-8292-3D2465659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DFAB7-C151-4CFC-8DF2-3C62993AD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02CCE-89C4-47A2-BE19-94837106E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5BB53-1BC5-405F-A7D3-02C2AF3F1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45B0D-477F-461E-9A45-713B571B6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34FE-F7B3-41F8-A578-5E04781BE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4AED0-BF7C-4157-82FA-ACCE4A422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7618B-A879-40A3-B9FD-472E3ACB8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64984-D019-43AF-89B5-F4FA78DAA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F2C9-A160-4267-98D8-D06603833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FFE3-F1C2-4FCD-954C-DEC37150E8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509560"/>
            <a:ext cx="8801280" cy="3017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georgia"/>
              </a:rPr>
              <a:t>The Love Song of </a:t>
            </a:r>
            <a:br>
              <a:rPr sz="6200"/>
            </a:br>
            <a:r>
              <a:rPr b="0" lang="en-US" sz="6200" spc="-1" strike="noStrike">
                <a:solidFill>
                  <a:srgbClr val="000000"/>
                </a:solidFill>
                <a:latin typeface="georgia"/>
              </a:rPr>
              <a:t>J. Alfred Prufrock</a:t>
            </a:r>
            <a:br>
              <a:rPr sz="6200"/>
            </a:br>
            <a:r>
              <a:rPr b="0" lang="en-US" sz="2700" spc="-1" strike="noStrike">
                <a:solidFill>
                  <a:srgbClr val="000000"/>
                </a:solidFill>
                <a:latin typeface="georgia"/>
              </a:rPr>
              <a:t>T.S. Eliot</a:t>
            </a:r>
            <a:endParaRPr b="0" lang="en-US" sz="2700" spc="-1" strike="noStrike">
              <a:solidFill>
                <a:srgbClr val="000000"/>
              </a:solidFill>
              <a:latin typeface="Times New Roman"/>
            </a:endParaRPr>
          </a:p>
        </p:txBody>
      </p:sp>
      <p:sp>
        <p:nvSpPr>
          <p:cNvPr id="42" name="PlaceHolder 2"/>
          <p:cNvSpPr>
            <a:spLocks noGrp="1"/>
          </p:cNvSpPr>
          <p:nvPr>
            <p:ph type="subTitle"/>
          </p:nvPr>
        </p:nvSpPr>
        <p:spPr>
          <a:xfrm>
            <a:off x="679320" y="6011640"/>
            <a:ext cx="8801280" cy="12538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itlin Alwan, Anna Diekemper, Cara Smarjesse, Jenny Busch</a:t>
            </a: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rs. Hausauer</a:t>
            </a: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mLit, 5</a:t>
            </a:r>
            <a:endParaRPr b="0" lang="en-US" sz="18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20-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8680" y="304560"/>
            <a:ext cx="8523360" cy="163188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S. Eliot </a:t>
            </a:r>
            <a:br>
              <a:rPr sz="6000"/>
            </a:br>
            <a:r>
              <a:rPr b="0" lang="en-US" sz="2400" spc="-1" strike="noStrike">
                <a:solidFill>
                  <a:srgbClr val="000000"/>
                </a:solidFill>
                <a:latin typeface="georgia"/>
              </a:rPr>
              <a:t>Thomas Stearns Eliot (1888-1965)</a:t>
            </a:r>
            <a:endParaRPr b="0" lang="en-US" sz="2400" spc="-1" strike="noStrike">
              <a:solidFill>
                <a:srgbClr val="000000"/>
              </a:solidFill>
              <a:latin typeface="Times New Roman"/>
            </a:endParaRPr>
          </a:p>
        </p:txBody>
      </p:sp>
      <p:sp>
        <p:nvSpPr>
          <p:cNvPr id="63" name=""/>
          <p:cNvSpPr/>
          <p:nvPr/>
        </p:nvSpPr>
        <p:spPr>
          <a:xfrm>
            <a:off x="1531800" y="2063880"/>
            <a:ext cx="7342200" cy="54997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ducated at Harvard, studied philosophy at Sorboone, which is the University of Paris, he then won a scholarship to Oxford in 1914.</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merican born but became British citizen at age 39, but has been quoted saying much of his work comes from influences through his American nationality. </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warded Nobel Prize in Literature in 1948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fluenced by Dante, his friend Ezra Pound, and his wife, Vivienne Haigh- Wood whom he married in the summer of 1915.</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ied of emphysema in 1965, he was a heavy smoker and had been diagnosed with bronchitis several times during his lif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Character Analysis</a:t>
            </a:r>
            <a:endParaRPr b="0" lang="en-US" sz="6000" spc="-1" strike="noStrike">
              <a:solidFill>
                <a:srgbClr val="000000"/>
              </a:solidFill>
              <a:latin typeface="Times New Roman"/>
            </a:endParaRPr>
          </a:p>
        </p:txBody>
      </p:sp>
      <p:sp>
        <p:nvSpPr>
          <p:cNvPr id="65" name=""/>
          <p:cNvSpPr/>
          <p:nvPr/>
        </p:nvSpPr>
        <p:spPr>
          <a:xfrm>
            <a:off x="1365120" y="2641680"/>
            <a:ext cx="7493040" cy="28076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ufrock is looking back on his life and realizing all of the things he didn’t achiev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ants to finish everything that he left unfinished in his lif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e understands he doesn’t have much time left</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easured out his life in coffee spoons</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ems to think that women aren’t attracted to him</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49200" y="507600"/>
            <a:ext cx="96537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eorgia"/>
              </a:rPr>
              <a:t>Literary Devices / Themes </a:t>
            </a:r>
            <a:endParaRPr b="0" lang="en-US" sz="5300" spc="-1" strike="noStrike">
              <a:solidFill>
                <a:srgbClr val="000000"/>
              </a:solidFill>
              <a:latin typeface="Times New Roman"/>
            </a:endParaRPr>
          </a:p>
        </p:txBody>
      </p:sp>
      <p:sp>
        <p:nvSpPr>
          <p:cNvPr id="67" name="PlaceHolder 2"/>
          <p:cNvSpPr>
            <a:spLocks noGrp="1"/>
          </p:cNvSpPr>
          <p:nvPr>
            <p:ph/>
          </p:nvPr>
        </p:nvSpPr>
        <p:spPr>
          <a:xfrm>
            <a:off x="245880" y="1824120"/>
            <a:ext cx="9972360" cy="58514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hyme-    "...in the room women come and g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alking of Michelangelo."</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et us go, through certain half-deserted street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e muttering retrea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agery- "Shall I say, I have gone at dusk through narrow</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streets And watched the smoke that rises from th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ipes Of lonely men in shirt-sleeves, leaning out of</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indow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lashback- The poem itself is like a flashback of the man'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life.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0720" y="406080"/>
            <a:ext cx="9653760" cy="911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300" spc="-1" strike="noStrike">
                <a:solidFill>
                  <a:srgbClr val="000000"/>
                </a:solidFill>
                <a:latin typeface="georgia"/>
              </a:rPr>
              <a:t>Literary Devices/ Themes</a:t>
            </a:r>
            <a:endParaRPr b="0" lang="en-US" sz="5300" spc="-1" strike="noStrike">
              <a:solidFill>
                <a:srgbClr val="000000"/>
              </a:solidFill>
              <a:latin typeface="Times New Roman"/>
            </a:endParaRPr>
          </a:p>
        </p:txBody>
      </p:sp>
      <p:sp>
        <p:nvSpPr>
          <p:cNvPr id="69" name="PlaceHolder 2"/>
          <p:cNvSpPr>
            <a:spLocks noGrp="1"/>
          </p:cNvSpPr>
          <p:nvPr>
            <p:ph/>
          </p:nvPr>
        </p:nvSpPr>
        <p:spPr>
          <a:xfrm>
            <a:off x="349200" y="2235240"/>
            <a:ext cx="9653760" cy="54799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rony-  Part of the title is called " The love song" and in the poem it</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alks about how he would have been better with women.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sonification- "The yellow fog that rugs its back upon th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 window panes"</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ife or love are probably the main themes of this poem. The author is trying to get across that you should live life to the fullest, because before you know it your too old to do stuff anymore. Also, we miss so many opportunities in life and by the time we realize it, they are gone. Love is shown because he talks about the times when he loved women but never fully told them, so he lost th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3920" y="122400"/>
            <a:ext cx="6828120" cy="1923840"/>
          </a:xfrm>
          <a:prstGeom prst="rect">
            <a:avLst/>
          </a:prstGeom>
          <a:noFill/>
          <a:ln w="0">
            <a:noFill/>
          </a:ln>
        </p:spPr>
        <p:txBody>
          <a:bodyPr lIns="0" rIns="0" tIns="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georgia"/>
              </a:rPr>
              <a:t>Relationship to Unit 5</a:t>
            </a:r>
            <a:endParaRPr b="0" lang="en-US" sz="6200" spc="-1" strike="noStrike">
              <a:solidFill>
                <a:srgbClr val="000000"/>
              </a:solidFill>
              <a:latin typeface="Times New Roman"/>
            </a:endParaRPr>
          </a:p>
        </p:txBody>
      </p:sp>
      <p:sp>
        <p:nvSpPr>
          <p:cNvPr id="71" name="PlaceHolder 2"/>
          <p:cNvSpPr>
            <a:spLocks noGrp="1"/>
          </p:cNvSpPr>
          <p:nvPr>
            <p:ph type="subTitle"/>
          </p:nvPr>
        </p:nvSpPr>
        <p:spPr>
          <a:xfrm>
            <a:off x="755640" y="1929960"/>
            <a:ext cx="8801280" cy="125244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isillusion, Defiance, and Discontent (1914 – 1946)</a:t>
            </a:r>
            <a:endParaRPr b="0" lang="en-US" sz="2700" spc="-1" strike="noStrike">
              <a:solidFill>
                <a:srgbClr val="000000"/>
              </a:solidFill>
              <a:latin typeface="Times New Roman"/>
            </a:endParaRPr>
          </a:p>
        </p:txBody>
      </p:sp>
      <p:grpSp>
        <p:nvGrpSpPr>
          <p:cNvPr id="72" name=""/>
          <p:cNvGrpSpPr/>
          <p:nvPr/>
        </p:nvGrpSpPr>
        <p:grpSpPr>
          <a:xfrm>
            <a:off x="1627200" y="1392120"/>
            <a:ext cx="6905520" cy="2090880"/>
            <a:chOff x="1627200" y="1392120"/>
            <a:chExt cx="6905520" cy="2090880"/>
          </a:xfrm>
        </p:grpSpPr>
        <p:sp>
          <p:nvSpPr>
            <p:cNvPr id="73" name=""/>
            <p:cNvSpPr/>
            <p:nvPr/>
          </p:nvSpPr>
          <p:spPr>
            <a:xfrm>
              <a:off x="1627200" y="1392120"/>
              <a:ext cx="6905520" cy="2090880"/>
            </a:xfrm>
            <a:prstGeom prst="rect">
              <a:avLst/>
            </a:prstGeom>
            <a:solidFill>
              <a:srgbClr val="b74d21"/>
            </a:solid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UNIT 5:</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Sense of optimism within this period</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WWI occurred and was one of the bloodiest wars</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Woodrow Wilson focused on events in Europe</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age of Modernism</a:t>
              </a:r>
              <a:endParaRPr b="0" lang="en-US" sz="2000" spc="-1" strike="noStrike">
                <a:solidFill>
                  <a:srgbClr val="000000"/>
                </a:solidFill>
                <a:latin typeface="Times New Roman"/>
              </a:endParaRPr>
            </a:p>
          </p:txBody>
        </p:sp>
        <p:sp>
          <p:nvSpPr>
            <p:cNvPr id="74" name=""/>
            <p:cNvSpPr/>
            <p:nvPr/>
          </p:nvSpPr>
          <p:spPr>
            <a:xfrm>
              <a:off x="1627200" y="1392120"/>
              <a:ext cx="690552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27200" y="3483000"/>
              <a:ext cx="690552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627200" y="1392120"/>
              <a:ext cx="0" cy="20908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532720" y="1392120"/>
              <a:ext cx="0" cy="20908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627200" y="1392120"/>
              <a:ext cx="69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627200" y="1392120"/>
              <a:ext cx="0" cy="20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532720" y="1392120"/>
              <a:ext cx="0" cy="209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627200" y="3483000"/>
              <a:ext cx="69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1630440" y="1395360"/>
            <a:ext cx="6897600" cy="2897280"/>
            <a:chOff x="1630440" y="1395360"/>
            <a:chExt cx="6897600" cy="2897280"/>
          </a:xfrm>
        </p:grpSpPr>
        <p:sp>
          <p:nvSpPr>
            <p:cNvPr id="83" name=""/>
            <p:cNvSpPr/>
            <p:nvPr/>
          </p:nvSpPr>
          <p:spPr>
            <a:xfrm>
              <a:off x="1630440" y="1395360"/>
              <a:ext cx="6897600" cy="2897280"/>
            </a:xfrm>
            <a:prstGeom prst="rect">
              <a:avLst/>
            </a:prstGeom>
            <a:solidFill>
              <a:srgbClr val="b74d21"/>
            </a:solidFill>
            <a:ln w="0">
              <a:noFill/>
            </a:ln>
          </p:spPr>
          <p:style>
            <a:lnRef idx="0"/>
            <a:fillRef idx="0"/>
            <a:effectRef idx="0"/>
            <a:fontRef idx="minor"/>
          </p:style>
          <p:txBody>
            <a:bodyPr lIns="0" rIns="0" tIns="0" bIns="0" anchor="t">
              <a:norm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THE LOVE SONG:</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The man, Prufrock has an optimistic view of the world which doesn’t go cohesively with Unit 5, describing the time of optimism.</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it includes dramatic monologue from Prufrock</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the attended audience is not evident</a:t>
              </a:r>
              <a:endParaRPr b="0" lang="en-US" sz="2000" spc="-1" strike="noStrike">
                <a:solidFill>
                  <a:srgbClr val="000000"/>
                </a:solidFill>
                <a:latin typeface="Times New Roman"/>
              </a:endParaRPr>
            </a:p>
            <a:p>
              <a:pPr lvl="1" marL="457200" indent="-342720">
                <a:lnSpc>
                  <a:spcPct val="95000"/>
                </a:lnSpc>
                <a:buClr>
                  <a:srgbClr val="eac968"/>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c968"/>
                  </a:solidFill>
                  <a:latin typeface="georgia"/>
                </a:rPr>
                <a:t>sense of romance, relates to the time period of husbands leaving their wives for deployment in the war</a:t>
              </a:r>
              <a:endParaRPr b="0" lang="en-US" sz="2000" spc="-1" strike="noStrike">
                <a:solidFill>
                  <a:srgbClr val="000000"/>
                </a:solidFill>
                <a:latin typeface="Times New Roman"/>
              </a:endParaRPr>
            </a:p>
          </p:txBody>
        </p:sp>
        <p:sp>
          <p:nvSpPr>
            <p:cNvPr id="84" name=""/>
            <p:cNvSpPr/>
            <p:nvPr/>
          </p:nvSpPr>
          <p:spPr>
            <a:xfrm>
              <a:off x="1630440" y="1395360"/>
              <a:ext cx="689760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630440" y="4292640"/>
              <a:ext cx="6897600" cy="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630440" y="1395360"/>
              <a:ext cx="0" cy="28972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8528040" y="1395360"/>
              <a:ext cx="0" cy="2897280"/>
            </a:xfrm>
            <a:prstGeom prst="line">
              <a:avLst/>
            </a:prstGeom>
            <a:ln cap="sq" w="0">
              <a:solidFill>
                <a:srgbClr val="eac96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30440" y="1395360"/>
              <a:ext cx="689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30440" y="1395360"/>
              <a:ext cx="0" cy="28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8528040" y="1395360"/>
              <a:ext cx="0" cy="289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630440" y="4292640"/>
              <a:ext cx="6897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2" name="" descr=""/>
          <p:cNvPicPr/>
          <p:nvPr/>
        </p:nvPicPr>
        <p:blipFill>
          <a:blip r:embed="rId2"/>
          <a:stretch/>
        </p:blipFill>
        <p:spPr>
          <a:xfrm>
            <a:off x="7213680" y="203040"/>
            <a:ext cx="2201760" cy="16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Opening Quotation</a:t>
            </a:r>
            <a:endParaRPr b="0" lang="en-US" sz="6000" spc="-1" strike="noStrike">
              <a:solidFill>
                <a:srgbClr val="000000"/>
              </a:solidFill>
              <a:latin typeface="Times New Roman"/>
            </a:endParaRPr>
          </a:p>
        </p:txBody>
      </p:sp>
      <p:sp>
        <p:nvSpPr>
          <p:cNvPr id="44" name=""/>
          <p:cNvSpPr/>
          <p:nvPr/>
        </p:nvSpPr>
        <p:spPr>
          <a:xfrm>
            <a:off x="679320" y="1893960"/>
            <a:ext cx="8801280" cy="50781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io credesse che mia risposta fosse</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 persona che mai tornasse al mond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Questa fiamma staria senza piu scosse.</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Ma perciocche giammai di questo fond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Non torno vivo alcun, s'i'odo il ver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enza tema d'infamia ti rispond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a:t>
            </a:r>
            <a:r>
              <a:rPr b="0" i="1" lang="en-US" sz="2700" spc="-1" strike="noStrike">
                <a:solidFill>
                  <a:srgbClr val="000000"/>
                </a:solidFill>
                <a:latin typeface="georgia"/>
              </a:rPr>
              <a:t>If I believed my answer were being given to</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omeone who could ever return to the world, this</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flame (his voice) would shake no more. But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Since no one has ever returned alive from </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this depth, if what I hear is true, I will answer</a:t>
            </a: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you without fear of disgra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46" name="" descr=""/>
          <p:cNvPicPr/>
          <p:nvPr/>
        </p:nvPicPr>
        <p:blipFill>
          <a:blip r:embed="rId2"/>
          <a:stretch/>
        </p:blipFill>
        <p:spPr>
          <a:xfrm>
            <a:off x="711360" y="1828800"/>
            <a:ext cx="8912160" cy="553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48" name="" descr=""/>
          <p:cNvPicPr/>
          <p:nvPr/>
        </p:nvPicPr>
        <p:blipFill>
          <a:blip r:embed="rId2"/>
          <a:stretch/>
        </p:blipFill>
        <p:spPr>
          <a:xfrm>
            <a:off x="782640" y="1809720"/>
            <a:ext cx="8594640" cy="5535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50" name="" descr=""/>
          <p:cNvPicPr/>
          <p:nvPr/>
        </p:nvPicPr>
        <p:blipFill>
          <a:blip r:embed="rId2"/>
          <a:stretch/>
        </p:blipFill>
        <p:spPr>
          <a:xfrm>
            <a:off x="623880" y="2104920"/>
            <a:ext cx="8912160" cy="551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The Love Song</a:t>
            </a:r>
            <a:endParaRPr b="0" lang="en-US" sz="6000" spc="-1" strike="noStrike">
              <a:solidFill>
                <a:srgbClr val="000000"/>
              </a:solidFill>
              <a:latin typeface="Times New Roman"/>
            </a:endParaRPr>
          </a:p>
        </p:txBody>
      </p:sp>
      <p:pic>
        <p:nvPicPr>
          <p:cNvPr id="52" name="" descr=""/>
          <p:cNvPicPr/>
          <p:nvPr/>
        </p:nvPicPr>
        <p:blipFill>
          <a:blip r:embed="rId2"/>
          <a:stretch/>
        </p:blipFill>
        <p:spPr>
          <a:xfrm>
            <a:off x="609480" y="1930320"/>
            <a:ext cx="8912520" cy="459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Poem Analysis</a:t>
            </a:r>
            <a:endParaRPr b="0" lang="en-US" sz="6000" spc="-1" strike="noStrike">
              <a:solidFill>
                <a:srgbClr val="000000"/>
              </a:solidFill>
              <a:latin typeface="Times New Roman"/>
            </a:endParaRPr>
          </a:p>
        </p:txBody>
      </p:sp>
      <p:sp>
        <p:nvSpPr>
          <p:cNvPr id="54" name=""/>
          <p:cNvSpPr/>
          <p:nvPr/>
        </p:nvSpPr>
        <p:spPr>
          <a:xfrm>
            <a:off x="654120" y="1930320"/>
            <a:ext cx="7813440" cy="33001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eam of consciousness techniqu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ome random thoughts</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hysically in one place (maybe a tea party) </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s mind is in a completely different place</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view into Prufrock’s thoughts about how he perceives himself and what others think of him</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ar the end of the poem he is trying to try to experience everything he can before his life ends Ex. Should I part my hair behind? Do I dare eat a peach?</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 name="" descr=""/>
          <p:cNvPicPr/>
          <p:nvPr/>
        </p:nvPicPr>
        <p:blipFill>
          <a:blip r:embed="rId2"/>
          <a:stretch/>
        </p:blipFill>
        <p:spPr>
          <a:xfrm>
            <a:off x="3251160" y="5384880"/>
            <a:ext cx="3164040" cy="19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79320" y="355320"/>
            <a:ext cx="8801280" cy="116820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Author’s Message </a:t>
            </a:r>
            <a:endParaRPr b="0" lang="en-US" sz="6000" spc="-1" strike="noStrike">
              <a:solidFill>
                <a:srgbClr val="000000"/>
              </a:solidFill>
              <a:latin typeface="Times New Roman"/>
            </a:endParaRPr>
          </a:p>
        </p:txBody>
      </p:sp>
      <p:sp>
        <p:nvSpPr>
          <p:cNvPr id="57" name=""/>
          <p:cNvSpPr/>
          <p:nvPr/>
        </p:nvSpPr>
        <p:spPr>
          <a:xfrm>
            <a:off x="1263600" y="1625760"/>
            <a:ext cx="7817040" cy="1859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s struggles relate to people today because everyone is somewhat afraid that their life will end when they aren’t done living it</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iot wants readers to realize the importance of living life to the fullest</a:t>
            </a:r>
            <a:endParaRPr b="0" lang="en-US" sz="2000" spc="-1" strike="noStrike">
              <a:solidFill>
                <a:srgbClr val="000000"/>
              </a:solidFill>
              <a:latin typeface="Times New Roman"/>
            </a:endParaRPr>
          </a:p>
        </p:txBody>
      </p:sp>
      <p:pic>
        <p:nvPicPr>
          <p:cNvPr id="58" name="" descr=""/>
          <p:cNvPicPr/>
          <p:nvPr/>
        </p:nvPicPr>
        <p:blipFill>
          <a:blip r:embed="rId2"/>
          <a:stretch/>
        </p:blipFill>
        <p:spPr>
          <a:xfrm>
            <a:off x="4165560" y="4673520"/>
            <a:ext cx="2048040" cy="261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53760" y="304560"/>
            <a:ext cx="8800920" cy="24447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georgia"/>
              </a:rPr>
              <a:t>  </a:t>
            </a:r>
            <a:r>
              <a:rPr b="0" lang="en-US" sz="6000" spc="-1" strike="noStrike">
                <a:solidFill>
                  <a:srgbClr val="000000"/>
                </a:solidFill>
                <a:latin typeface="georgia"/>
              </a:rPr>
              <a:t>T.S. Eliot  </a:t>
            </a:r>
            <a:br>
              <a:rPr sz="6000"/>
            </a:br>
            <a:r>
              <a:rPr b="0" lang="en-US" sz="2400" spc="-1" strike="noStrike">
                <a:solidFill>
                  <a:srgbClr val="000000"/>
                </a:solidFill>
                <a:latin typeface="georgia"/>
              </a:rPr>
              <a:t>Fun Facts</a:t>
            </a:r>
            <a:endParaRPr b="0" lang="en-US" sz="2400" spc="-1" strike="noStrike">
              <a:solidFill>
                <a:srgbClr val="000000"/>
              </a:solidFill>
              <a:latin typeface="Times New Roman"/>
            </a:endParaRPr>
          </a:p>
        </p:txBody>
      </p:sp>
      <p:sp>
        <p:nvSpPr>
          <p:cNvPr id="60" name=""/>
          <p:cNvSpPr/>
          <p:nvPr/>
        </p:nvSpPr>
        <p:spPr>
          <a:xfrm>
            <a:off x="349200" y="2743200"/>
            <a:ext cx="8801280" cy="23158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e was given the nickname Old Possum by his friend Ezra Pound, he used this nickname in the title of a book containing a collection of whimsical poems called </a:t>
            </a:r>
            <a:r>
              <a:rPr b="0" lang="en-US" sz="2000" spc="-1" strike="noStrike" u="sng">
                <a:solidFill>
                  <a:srgbClr val="000000"/>
                </a:solidFill>
                <a:uFillTx/>
                <a:latin typeface="georgia"/>
              </a:rPr>
              <a:t>Old Possum’s Book of Practical  Cats</a:t>
            </a:r>
            <a:r>
              <a:rPr b="0" lang="en-US" sz="2000" spc="-1" strike="noStrike">
                <a:solidFill>
                  <a:srgbClr val="000000"/>
                </a:solidFill>
                <a:latin typeface="georgia"/>
              </a:rPr>
              <a:t>.</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S. Eliot was put on a United States postage stamp in the                Literary Arts series in 1986.</a:t>
            </a:r>
            <a:endParaRPr b="0" lang="en-US" sz="2000" spc="-1" strike="noStrike">
              <a:solidFill>
                <a:srgbClr val="000000"/>
              </a:solidFill>
              <a:latin typeface="Times New Roman"/>
            </a:endParaRPr>
          </a:p>
          <a:p>
            <a:pPr lvl="1" marL="457200" indent="-342720">
              <a:lnSpc>
                <a:spcPct val="95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is first marriage was very troubled and eventually ended             in divorce. Almost immediately afterwards he married again.  </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2"/>
          <a:stretch/>
        </p:blipFill>
        <p:spPr>
          <a:xfrm>
            <a:off x="7620120" y="3860640"/>
            <a:ext cx="2019240" cy="314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